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usTRe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tusTReg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OptusTRe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D2F-6047-4E74-A4AC-CDE8526A5DC5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40A-EB89-43D6-9062-89BC9D97BD39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299D-1FF2-464E-8890-C6C8BFA5BB50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0FCA-7412-47AC-90A5-47D41C92DC52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F5BC-CA89-4E47-B18E-52306F4D8001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9337-DF88-4D94-BD31-EE0C63B62627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EA20-302A-4006-9743-7DFB2D0F90F5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F401-EEAC-45D1-B2F8-4BFA7B000559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E88-DEFD-41F6-BA24-6E341BE4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D64-273C-49E7-8FCE-A7A4C4C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43D-8D20-4E8F-B5AA-898A646F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C29-9124-4EFD-9F78-3C62DE33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B9D-D275-441F-ABCE-D90F225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8BB-1D83-419B-8BC2-5D882DD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213-A62E-43B8-BEB7-903E0AAF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0B1-3477-4F8B-BCA5-41F52BC7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4AF-1443-44E0-9ACE-84EF3AFD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CE1-F1F4-41B3-8215-F0008CF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8E9-2F23-41E5-872A-088F9A3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CE5-0FF8-4E60-A17B-7B44AE3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usTRe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usTRe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usTRe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usTRe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usTRe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BD61-C576-483C-941F-BDB1F48F3FCA}" type="slidenum">
              <a:rPr b="0" lang="en-US" sz="14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3.jpeg"/><Relationship Id="rId10" Type="http://schemas.openxmlformats.org/officeDocument/2006/relationships/image" Target="../media/image21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3.jpeg"/><Relationship Id="rId4" Type="http://schemas.openxmlformats.org/officeDocument/2006/relationships/image" Target="../media/image29.jpeg"/><Relationship Id="rId5" Type="http://schemas.openxmlformats.org/officeDocument/2006/relationships/image" Target="../media/image13.jpe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3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Aim:  What is the legacy of Ancient Greece?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L28 Contributions of Greec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Do Now:  Set up notebook page for today. Leave room to add to each section based on our discussions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venn01"/>
          <p:cNvPicPr/>
          <p:nvPr/>
        </p:nvPicPr>
        <p:blipFill>
          <a:blip r:embed="rId2"/>
          <a:stretch/>
        </p:blipFill>
        <p:spPr>
          <a:xfrm>
            <a:off x="685800" y="1612800"/>
            <a:ext cx="7772400" cy="5058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57600" y="36576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ontrol their own destiny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993760" y="933480"/>
            <a:ext cx="32011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Gover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952880" y="2819520"/>
            <a:ext cx="2971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1240"/>
                <a:tab algn="l" pos="222120"/>
                <a:tab algn="l" pos="349200"/>
                <a:tab algn="l" pos="460440"/>
                <a:tab algn="l" pos="571680"/>
                <a:tab algn="l" pos="68256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We elect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representatives to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speak for us and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make laws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990720" y="41911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1240"/>
                <a:tab algn="l" pos="222120"/>
                <a:tab algn="l" pos="349200"/>
                <a:tab algn="l" pos="460440"/>
                <a:tab algn="l" pos="571680"/>
                <a:tab algn="l" pos="68256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Only native-born     men could be citizens   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in Athens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562720" y="411480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1240"/>
                <a:tab algn="l" pos="222120"/>
                <a:tab algn="l" pos="349200"/>
                <a:tab algn="l" pos="460440"/>
                <a:tab algn="l" pos="571680"/>
                <a:tab algn="l" pos="68256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oday, women are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, and people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from other countries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an become U.S.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, too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914400" y="28195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debated and voted        on every issue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0" name="WordArt 16"/>
          <p:cNvSpPr txBox="1"/>
          <p:nvPr/>
        </p:nvSpPr>
        <p:spPr>
          <a:xfrm rot="19095000">
            <a:off x="758880" y="2131560"/>
            <a:ext cx="1447920" cy="51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Ancient Greek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Democrac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</p:txBody>
      </p:sp>
      <p:sp>
        <p:nvSpPr>
          <p:cNvPr id="91" name="WordArt 17"/>
          <p:cNvSpPr txBox="1"/>
          <p:nvPr/>
        </p:nvSpPr>
        <p:spPr>
          <a:xfrm rot="2437800">
            <a:off x="6918120" y="2103120"/>
            <a:ext cx="1600200" cy="51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632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Modern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Democrac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3000" spc="-1" strike="noStrike">
                <a:solidFill>
                  <a:srgbClr val="3333cc"/>
                </a:solidFill>
                <a:latin typeface="OptusTReg"/>
              </a:rPr>
              <a:t>Literature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Comedy, Traged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Historical writing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154600" y="933480"/>
            <a:ext cx="494316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Language and Litera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410080" y="1447920"/>
            <a:ext cx="3581640" cy="567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333cc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OptusTReg"/>
              </a:rPr>
              <a:t>Thucydides</a:t>
            </a: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wrote only one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book; its modern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  title is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OptusTReg"/>
              </a:rPr>
              <a:t>History of th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OptusTReg"/>
              </a:rPr>
              <a:t>Peloponnesian War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225360" indent="-22536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one of the first true historians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677880" indent="-220680">
              <a:lnSpc>
                <a:spcPct val="100000"/>
              </a:lnSpc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he created the first scientific approach to history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  <a:p>
            <a:pPr lvl="1" marL="677880" indent="-220680">
              <a:lnSpc>
                <a:spcPct val="100000"/>
              </a:lnSpc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consulted written documents and interviewed participants in the events that he recorded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  <a:p>
            <a:pPr marL="225360" indent="-22536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Quote: "The strong do what they can and the weak suffer</a:t>
            </a:r>
            <a:r>
              <a:rPr b="0" lang="en-US" sz="2100" spc="-1" strike="noStrike">
                <a:solidFill>
                  <a:srgbClr val="000000"/>
                </a:solidFill>
                <a:latin typeface="OptusTReg"/>
              </a:rPr>
              <a:t> what they must."</a:t>
            </a:r>
            <a:endParaRPr b="0" lang="en-US" sz="21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52280" y="3251160"/>
            <a:ext cx="510552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buClr>
                <a:srgbClr val="3333cc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OptusTReg"/>
              </a:rPr>
              <a:t>Herodotu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is known as the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       “father of history.”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222120" indent="-22212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He is almost exclusively known for writing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OptusTReg"/>
              </a:rPr>
              <a:t>The Historie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, a collection of 'inquiries' about the different places and people he met during travels around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Mediterranean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and into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Mesopotamia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222120" indent="-22212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The unifying theme of his work is the conflict between the ancient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and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Persian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97" name="Picture 9" descr="thucydides"/>
          <p:cNvPicPr/>
          <p:nvPr/>
        </p:nvPicPr>
        <p:blipFill>
          <a:blip r:embed="rId4"/>
          <a:srcRect l="0" t="5282" r="0" b="0"/>
          <a:stretch/>
        </p:blipFill>
        <p:spPr>
          <a:xfrm>
            <a:off x="7772400" y="990720"/>
            <a:ext cx="1219320" cy="1143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8" name="Picture 14" descr="Herodotus"/>
          <p:cNvPicPr/>
          <p:nvPr/>
        </p:nvPicPr>
        <p:blipFill>
          <a:blip r:embed="rId5"/>
          <a:stretch/>
        </p:blipFill>
        <p:spPr>
          <a:xfrm>
            <a:off x="4114800" y="2438280"/>
            <a:ext cx="1089000" cy="1371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The word </a:t>
            </a:r>
            <a:r>
              <a:rPr b="0" i="1" lang="en-US" sz="3000" spc="-1" strike="noStrike">
                <a:solidFill>
                  <a:srgbClr val="3333cc"/>
                </a:solidFill>
                <a:latin typeface="OptusTReg"/>
              </a:rPr>
              <a:t>architecture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comes from the </a:t>
            </a:r>
            <a:r>
              <a:rPr b="0" lang="en-US" sz="30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word, </a:t>
            </a:r>
            <a:r>
              <a:rPr b="0" i="1" lang="en-US" sz="3000" spc="-1" strike="noStrike">
                <a:solidFill>
                  <a:srgbClr val="800000"/>
                </a:solidFill>
                <a:latin typeface="OptusTReg"/>
              </a:rPr>
              <a:t>arkhitekton 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which means "master builder," from </a:t>
            </a:r>
            <a:r>
              <a:rPr b="0" i="1" lang="en-US" sz="3000" spc="-1" strike="noStrike">
                <a:solidFill>
                  <a:srgbClr val="800000"/>
                </a:solidFill>
                <a:latin typeface="OptusTReg"/>
              </a:rPr>
              <a:t>arkhi-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"chief" + </a:t>
            </a:r>
            <a:r>
              <a:rPr b="0" i="1" lang="en-US" sz="3000" spc="-1" strike="noStrike">
                <a:solidFill>
                  <a:srgbClr val="800000"/>
                </a:solidFill>
                <a:latin typeface="OptusTReg"/>
              </a:rPr>
              <a:t>tekton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"builder, carpenter."</a:t>
            </a:r>
            <a:endParaRPr b="0" lang="en-US" sz="30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30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used:</a:t>
            </a:r>
            <a:endParaRPr b="0" lang="en-US" sz="3000" spc="-1" strike="noStrike">
              <a:solidFill>
                <a:srgbClr val="000000"/>
              </a:solidFill>
              <a:latin typeface="OptusTReg"/>
            </a:endParaRPr>
          </a:p>
          <a:p>
            <a:pPr lvl="1" marL="635040" indent="-177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OptusTReg"/>
              </a:rPr>
              <a:t>column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to make their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</a:t>
            </a:r>
            <a:r>
              <a:rPr b="0" lang="en-US" sz="2600" spc="-1" strike="noStrike">
                <a:solidFill>
                  <a:srgbClr val="3333cc"/>
                </a:solidFill>
                <a:latin typeface="OptusTReg"/>
              </a:rPr>
              <a:t>temple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balanced and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 stately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lvl="1" marL="635040" indent="-177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i="1" lang="en-US" sz="2600" spc="-1" strike="noStrike">
                <a:solidFill>
                  <a:srgbClr val="3333cc"/>
                </a:solidFill>
                <a:latin typeface="OptusTReg"/>
              </a:rPr>
              <a:t>pediment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, the triangular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shapes where roof lines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  come together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lvl="1" marL="635040" indent="-177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decorative bands called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 </a:t>
            </a:r>
            <a:r>
              <a:rPr b="0" i="1" lang="en-US" sz="2600" spc="-1" strike="noStrike">
                <a:solidFill>
                  <a:srgbClr val="3333cc"/>
                </a:solidFill>
                <a:latin typeface="OptusTReg"/>
              </a:rPr>
              <a:t>friezes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968200" y="933480"/>
            <a:ext cx="315720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rchitec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02" name="Picture 14" descr="parth_ext2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7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1"/>
          <p:cNvSpPr/>
          <p:nvPr/>
        </p:nvSpPr>
        <p:spPr>
          <a:xfrm>
            <a:off x="6400800" y="2232000"/>
            <a:ext cx="259092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churches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First Presbyterian Church of Cranbury, New Jersey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Greek styles are still used in many buildings today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968200" y="933480"/>
            <a:ext cx="315720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rchitec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07" name="Picture 17" descr="White House"/>
          <p:cNvPicPr/>
          <p:nvPr/>
        </p:nvPicPr>
        <p:blipFill>
          <a:blip r:embed="rId3"/>
          <a:stretch/>
        </p:blipFill>
        <p:spPr>
          <a:xfrm>
            <a:off x="380880" y="2133720"/>
            <a:ext cx="1981440" cy="1452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08" name="Picture 20" descr="This Week's Image"/>
          <p:cNvPicPr/>
          <p:nvPr/>
        </p:nvPicPr>
        <p:blipFill>
          <a:blip r:embed="rId4"/>
          <a:stretch/>
        </p:blipFill>
        <p:spPr>
          <a:xfrm>
            <a:off x="6172200" y="4038480"/>
            <a:ext cx="2514600" cy="1676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9" name="Text Box 21"/>
          <p:cNvSpPr/>
          <p:nvPr/>
        </p:nvSpPr>
        <p:spPr>
          <a:xfrm>
            <a:off x="0" y="3581280"/>
            <a:ext cx="2590920" cy="97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government building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The White House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6172200" y="5661000"/>
            <a:ext cx="2819520" cy="9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school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Johnson Hall at the University of Oregon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11" name="Picture 24" descr="CranburyPres"/>
          <p:cNvPicPr/>
          <p:nvPr/>
        </p:nvPicPr>
        <p:blipFill>
          <a:blip r:embed="rId7"/>
          <a:stretch/>
        </p:blipFill>
        <p:spPr>
          <a:xfrm>
            <a:off x="4957920" y="2286000"/>
            <a:ext cx="1442880" cy="1600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2" name="Picture 33" descr="PUBLIClibnyc_lbr"/>
          <p:cNvPicPr/>
          <p:nvPr/>
        </p:nvPicPr>
        <p:blipFill>
          <a:blip r:embed="rId8"/>
          <a:srcRect l="6974" t="0" r="0" b="0"/>
          <a:stretch/>
        </p:blipFill>
        <p:spPr>
          <a:xfrm>
            <a:off x="152280" y="4975200"/>
            <a:ext cx="3048120" cy="1730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3" name="Text Box 34"/>
          <p:cNvSpPr/>
          <p:nvPr/>
        </p:nvSpPr>
        <p:spPr>
          <a:xfrm>
            <a:off x="609480" y="4670280"/>
            <a:ext cx="2819520" cy="673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librarie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New York Public Library 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14" name="Picture 37" descr="history_museum"/>
          <p:cNvPicPr/>
          <p:nvPr/>
        </p:nvPicPr>
        <p:blipFill>
          <a:blip r:embed="rId10"/>
          <a:stretch/>
        </p:blipFill>
        <p:spPr>
          <a:xfrm>
            <a:off x="3116160" y="2301840"/>
            <a:ext cx="1481400" cy="2193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5" name="Text Box 40"/>
          <p:cNvSpPr/>
          <p:nvPr/>
        </p:nvSpPr>
        <p:spPr>
          <a:xfrm>
            <a:off x="3657600" y="4495680"/>
            <a:ext cx="2209680" cy="1221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museum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Carnegie Art Museum, Oxnard, CA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•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e word, </a:t>
            </a:r>
            <a:r>
              <a:rPr b="0" i="1" lang="en-US" sz="2400" spc="-1" strike="noStrike">
                <a:solidFill>
                  <a:srgbClr val="3333cc"/>
                </a:solidFill>
                <a:latin typeface="OptusTReg"/>
              </a:rPr>
              <a:t>theater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, comes from the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ord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tr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, which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eans "place for viewing," from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sthai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"to behold" (cf.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"a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view,"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te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"spectator") +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-tr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, suffix denoting plac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•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theater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ere built as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semicircles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31160" indent="-28296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 rows of seats rose steeply from the stage so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     that everyone in the audience could see and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   hear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335880" indent="-3358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se ideas influence the wa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theater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re built today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340080" y="933480"/>
            <a:ext cx="25048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Theater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19" name="Picture 11" descr="theatron"/>
          <p:cNvPicPr/>
          <p:nvPr/>
        </p:nvPicPr>
        <p:blipFill>
          <a:blip r:embed="rId2"/>
          <a:srcRect l="0" t="0" r="0" b="13600"/>
          <a:stretch/>
        </p:blipFill>
        <p:spPr>
          <a:xfrm>
            <a:off x="6095880" y="4724280"/>
            <a:ext cx="2819520" cy="1874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0" name="Picture 15" descr="Hollywood Bowl"/>
          <p:cNvPicPr/>
          <p:nvPr/>
        </p:nvPicPr>
        <p:blipFill>
          <a:blip r:embed="rId3"/>
          <a:srcRect l="7913" t="5625" r="7638" b="11044"/>
          <a:stretch/>
        </p:blipFill>
        <p:spPr>
          <a:xfrm>
            <a:off x="228600" y="1811160"/>
            <a:ext cx="3733920" cy="2455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even invented special effects.  They used hoists to make people appear to fly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y also create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scener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tha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revolved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or turned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-Perhaps the greates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ontributions to the theater are their stories an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play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Writers throughout the ages have been inspired by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myths and stories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drama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are still performed today all over the world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340080" y="933480"/>
            <a:ext cx="25048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Theater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24" name="Picture 15" descr="9"/>
          <p:cNvPicPr/>
          <p:nvPr/>
        </p:nvPicPr>
        <p:blipFill>
          <a:blip r:embed="rId2"/>
          <a:stretch/>
        </p:blipFill>
        <p:spPr>
          <a:xfrm>
            <a:off x="5638680" y="3733920"/>
            <a:ext cx="3429000" cy="2935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5" name="Picture 20" descr="TurnTable"/>
          <p:cNvPicPr/>
          <p:nvPr/>
        </p:nvPicPr>
        <p:blipFill>
          <a:blip r:embed="rId3"/>
          <a:stretch/>
        </p:blipFill>
        <p:spPr>
          <a:xfrm>
            <a:off x="6019920" y="1905120"/>
            <a:ext cx="2971800" cy="1673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firs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Olympic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ere held in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776 B.C.E. to honor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    god Zeu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oday’s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Olympic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reflect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ncien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ustom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-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During the opening ceremony, 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                an athlete lights the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Olympic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            flame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-This custom comes from the time 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                       when the first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Olympic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athletes 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      lit a fire on the altar of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Zeus</a:t>
            </a:r>
            <a:r>
              <a:rPr b="0" lang="en-US" sz="31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381480" y="933480"/>
            <a:ext cx="23173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29" name="Picture 9" descr="jbc%20olympic%20torch"/>
          <p:cNvPicPr/>
          <p:nvPr/>
        </p:nvPicPr>
        <p:blipFill>
          <a:blip r:embed="rId2"/>
          <a:stretch/>
        </p:blipFill>
        <p:spPr>
          <a:xfrm>
            <a:off x="5105520" y="3886200"/>
            <a:ext cx="3809880" cy="27687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30" name="Picture 11" descr="f108"/>
          <p:cNvPicPr/>
          <p:nvPr/>
        </p:nvPicPr>
        <p:blipFill>
          <a:blip r:embed="rId3"/>
          <a:srcRect l="3838" t="2953" r="11544" b="2363"/>
          <a:stretch/>
        </p:blipFill>
        <p:spPr>
          <a:xfrm>
            <a:off x="152280" y="1676520"/>
            <a:ext cx="3276720" cy="2438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any modern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Olympic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events grew out of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contests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One example is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 word, </a:t>
            </a:r>
            <a:r>
              <a:rPr b="0" i="1" lang="en-US" sz="20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, which means “five contests,” comes from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words </a:t>
            </a:r>
            <a:r>
              <a:rPr b="0" i="1" lang="en-US" sz="2000" spc="-1" strike="noStrike">
                <a:solidFill>
                  <a:srgbClr val="800000"/>
                </a:solidFill>
                <a:latin typeface="OptusTReg"/>
              </a:rPr>
              <a:t>pente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meaning "five" and </a:t>
            </a:r>
            <a:r>
              <a:rPr b="0" i="1" lang="en-US" sz="2000" spc="-1" strike="noStrike">
                <a:solidFill>
                  <a:srgbClr val="800000"/>
                </a:solidFill>
                <a:latin typeface="OptusTReg"/>
              </a:rPr>
              <a:t>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meaning "prize, contest.“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Greek pent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included: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381480" y="933480"/>
            <a:ext cx="23173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34" name="Picture 10" descr="art-Panel-HEL-Detail3"/>
          <p:cNvPicPr/>
          <p:nvPr/>
        </p:nvPicPr>
        <p:blipFill>
          <a:blip r:embed="rId2"/>
          <a:stretch/>
        </p:blipFill>
        <p:spPr>
          <a:xfrm>
            <a:off x="228600" y="3505320"/>
            <a:ext cx="2209680" cy="1655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35" name="Text Box 11"/>
          <p:cNvSpPr/>
          <p:nvPr/>
        </p:nvSpPr>
        <p:spPr>
          <a:xfrm>
            <a:off x="762120" y="5181480"/>
            <a:ext cx="12189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footraces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36" name="Picture 13" descr="26_small"/>
          <p:cNvPicPr/>
          <p:nvPr/>
        </p:nvPicPr>
        <p:blipFill>
          <a:blip r:embed="rId4"/>
          <a:srcRect l="3526" t="1112" r="3599" b="1112"/>
          <a:stretch/>
        </p:blipFill>
        <p:spPr>
          <a:xfrm>
            <a:off x="2666880" y="4114800"/>
            <a:ext cx="1551240" cy="2438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37" name="Text Box 14"/>
          <p:cNvSpPr/>
          <p:nvPr/>
        </p:nvSpPr>
        <p:spPr>
          <a:xfrm>
            <a:off x="1066680" y="6041880"/>
            <a:ext cx="16002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discus throw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38" name="Picture 16" descr="javelin"/>
          <p:cNvPicPr/>
          <p:nvPr/>
        </p:nvPicPr>
        <p:blipFill>
          <a:blip r:embed="rId6"/>
          <a:srcRect l="17898" t="0" r="12592" b="9455"/>
          <a:stretch/>
        </p:blipFill>
        <p:spPr>
          <a:xfrm>
            <a:off x="4419720" y="4800600"/>
            <a:ext cx="1904760" cy="1744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39" name="Picture 18" descr="long%20jump"/>
          <p:cNvPicPr/>
          <p:nvPr/>
        </p:nvPicPr>
        <p:blipFill>
          <a:blip r:embed="rId7"/>
          <a:stretch/>
        </p:blipFill>
        <p:spPr>
          <a:xfrm>
            <a:off x="4419720" y="3124080"/>
            <a:ext cx="2533680" cy="1441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40" name="Text Box 19"/>
          <p:cNvSpPr/>
          <p:nvPr/>
        </p:nvSpPr>
        <p:spPr>
          <a:xfrm>
            <a:off x="7010280" y="3200400"/>
            <a:ext cx="129564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long jump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095880" y="6346800"/>
            <a:ext cx="1600200" cy="703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javelin throw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42" name="Picture 22" descr="ancient_wrestling"/>
          <p:cNvPicPr/>
          <p:nvPr/>
        </p:nvPicPr>
        <p:blipFill>
          <a:blip r:embed="rId10"/>
          <a:stretch/>
        </p:blipFill>
        <p:spPr>
          <a:xfrm>
            <a:off x="6934320" y="4815000"/>
            <a:ext cx="1981080" cy="1357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43" name="Text Box 23"/>
          <p:cNvSpPr/>
          <p:nvPr/>
        </p:nvSpPr>
        <p:spPr>
          <a:xfrm>
            <a:off x="7620120" y="4343400"/>
            <a:ext cx="129528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wrestl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invented 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as a test of all-around athletic skill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Although the five contests are different today, 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is still an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Olympic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event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381480" y="933480"/>
            <a:ext cx="23173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62120" y="5181480"/>
            <a:ext cx="12189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shoot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066680" y="6041880"/>
            <a:ext cx="1600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fenc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410080" y="2819520"/>
            <a:ext cx="129564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swimm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95880" y="6346800"/>
            <a:ext cx="16002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rid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51" name="Picture 23" descr="Air pistol shooting"/>
          <p:cNvPicPr/>
          <p:nvPr/>
        </p:nvPicPr>
        <p:blipFill>
          <a:blip r:embed="rId6"/>
          <a:stretch/>
        </p:blipFill>
        <p:spPr>
          <a:xfrm>
            <a:off x="228600" y="3471840"/>
            <a:ext cx="2590920" cy="16336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2" name="Picture 26" descr="Fencing"/>
          <p:cNvPicPr/>
          <p:nvPr/>
        </p:nvPicPr>
        <p:blipFill>
          <a:blip r:embed="rId7"/>
          <a:stretch/>
        </p:blipFill>
        <p:spPr>
          <a:xfrm>
            <a:off x="2743200" y="4495680"/>
            <a:ext cx="1890720" cy="2117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3" name="Picture 29" descr="Swimming"/>
          <p:cNvPicPr/>
          <p:nvPr/>
        </p:nvPicPr>
        <p:blipFill>
          <a:blip r:embed="rId8"/>
          <a:stretch/>
        </p:blipFill>
        <p:spPr>
          <a:xfrm>
            <a:off x="3505320" y="2819520"/>
            <a:ext cx="1828800" cy="1325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4" name="Picture 32" descr="Riding"/>
          <p:cNvPicPr/>
          <p:nvPr/>
        </p:nvPicPr>
        <p:blipFill>
          <a:blip r:embed="rId9"/>
          <a:stretch/>
        </p:blipFill>
        <p:spPr>
          <a:xfrm>
            <a:off x="5486400" y="3657600"/>
            <a:ext cx="1778040" cy="2666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5" name="Picture 35" descr="Running"/>
          <p:cNvPicPr/>
          <p:nvPr/>
        </p:nvPicPr>
        <p:blipFill>
          <a:blip r:embed="rId10"/>
          <a:stretch/>
        </p:blipFill>
        <p:spPr>
          <a:xfrm>
            <a:off x="7454880" y="3200400"/>
            <a:ext cx="1460520" cy="2960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56" name="Text Box 14"/>
          <p:cNvSpPr/>
          <p:nvPr/>
        </p:nvSpPr>
        <p:spPr>
          <a:xfrm>
            <a:off x="7086600" y="2917800"/>
            <a:ext cx="129528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Review – The Legacy of Ancient Greece</a:t>
            </a:r>
            <a:endParaRPr b="0" lang="en-US" sz="3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Language and Literature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Understanding of the Bod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Mathematics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Understanding of Plants and Animals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ater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59" name="Picture 16" descr="Greek_letter_beta"/>
          <p:cNvPicPr/>
          <p:nvPr/>
        </p:nvPicPr>
        <p:blipFill>
          <a:blip r:embed="rId2"/>
          <a:srcRect l="0" t="0" r="10079" b="50118"/>
          <a:stretch/>
        </p:blipFill>
        <p:spPr>
          <a:xfrm>
            <a:off x="685800" y="1143000"/>
            <a:ext cx="1143000" cy="84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0" name="Picture 17" descr="vote"/>
          <p:cNvPicPr/>
          <p:nvPr/>
        </p:nvPicPr>
        <p:blipFill>
          <a:blip r:embed="rId3"/>
          <a:stretch/>
        </p:blipFill>
        <p:spPr>
          <a:xfrm>
            <a:off x="152280" y="2057400"/>
            <a:ext cx="1206720" cy="1009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1" name="Picture 20" descr="medicine_bottle_5"/>
          <p:cNvPicPr/>
          <p:nvPr/>
        </p:nvPicPr>
        <p:blipFill>
          <a:blip r:embed="rId4"/>
          <a:stretch/>
        </p:blipFill>
        <p:spPr>
          <a:xfrm>
            <a:off x="914400" y="3048120"/>
            <a:ext cx="968400" cy="990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2" name="Picture 22" descr="image1"/>
          <p:cNvPicPr/>
          <p:nvPr/>
        </p:nvPicPr>
        <p:blipFill>
          <a:blip r:embed="rId5"/>
          <a:srcRect l="9159" t="3219" r="9159" b="5553"/>
          <a:stretch/>
        </p:blipFill>
        <p:spPr>
          <a:xfrm>
            <a:off x="146160" y="3505320"/>
            <a:ext cx="844560" cy="1828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3" name="Picture 23" descr="Mathematical Symbols"/>
          <p:cNvPicPr/>
          <p:nvPr/>
        </p:nvPicPr>
        <p:blipFill>
          <a:blip r:embed="rId6"/>
          <a:stretch/>
        </p:blipFill>
        <p:spPr>
          <a:xfrm>
            <a:off x="152280" y="5410080"/>
            <a:ext cx="1471680" cy="1285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4" name="Picture 25" descr="barspirl"/>
          <p:cNvPicPr/>
          <p:nvPr/>
        </p:nvPicPr>
        <p:blipFill>
          <a:blip r:embed="rId7"/>
          <a:stretch/>
        </p:blipFill>
        <p:spPr>
          <a:xfrm>
            <a:off x="4648320" y="1523880"/>
            <a:ext cx="1752480" cy="1001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5" name="Picture 29" descr="Replogle-pioneer-blue-ocean-gold-base"/>
          <p:cNvPicPr/>
          <p:nvPr/>
        </p:nvPicPr>
        <p:blipFill>
          <a:blip r:embed="rId8"/>
          <a:stretch/>
        </p:blipFill>
        <p:spPr>
          <a:xfrm>
            <a:off x="7162920" y="1066680"/>
            <a:ext cx="1538280" cy="1791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6" name="Picture 36" descr="plants_animals"/>
          <p:cNvPicPr/>
          <p:nvPr/>
        </p:nvPicPr>
        <p:blipFill>
          <a:blip r:embed="rId9"/>
          <a:stretch/>
        </p:blipFill>
        <p:spPr>
          <a:xfrm>
            <a:off x="4572000" y="3276720"/>
            <a:ext cx="2141640" cy="1234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7" name="Picture 40" descr="3"/>
          <p:cNvPicPr/>
          <p:nvPr/>
        </p:nvPicPr>
        <p:blipFill>
          <a:blip r:embed="rId10"/>
          <a:srcRect l="31998" t="17099" r="36754" b="4981"/>
          <a:stretch/>
        </p:blipFill>
        <p:spPr>
          <a:xfrm>
            <a:off x="7848720" y="3048120"/>
            <a:ext cx="1116000" cy="1523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8" name="Picture 41" descr="Atlanta_Flatiron_Building"/>
          <p:cNvPicPr/>
          <p:nvPr/>
        </p:nvPicPr>
        <p:blipFill>
          <a:blip r:embed="rId11"/>
          <a:stretch/>
        </p:blipFill>
        <p:spPr>
          <a:xfrm>
            <a:off x="7696080" y="5105520"/>
            <a:ext cx="1078200" cy="17524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9" name="Picture 43" descr="799sports"/>
          <p:cNvPicPr/>
          <p:nvPr/>
        </p:nvPicPr>
        <p:blipFill>
          <a:blip r:embed="rId12"/>
          <a:stretch/>
        </p:blipFill>
        <p:spPr>
          <a:xfrm>
            <a:off x="4610160" y="5288040"/>
            <a:ext cx="2019240" cy="1357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OptusTReg"/>
              </a:rPr>
              <a:t>Greek contributions:</a:t>
            </a:r>
            <a:r>
              <a:rPr b="0" lang="en-US" sz="2800" spc="-1" strike="noStrike">
                <a:solidFill>
                  <a:srgbClr val="a50021"/>
                </a:solidFill>
                <a:latin typeface="OptusTRe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51" name="Picture 10" descr="Legacies from Ancient Greece Book"/>
          <p:cNvPicPr/>
          <p:nvPr/>
        </p:nvPicPr>
        <p:blipFill>
          <a:blip r:embed="rId2"/>
          <a:stretch/>
        </p:blipFill>
        <p:spPr>
          <a:xfrm>
            <a:off x="4659480" y="1143000"/>
            <a:ext cx="4224240" cy="54864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55320" y="933480"/>
            <a:ext cx="29908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Geograph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work of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astronomer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lso contributed to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eograph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the study of the Earth’s surface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word, </a:t>
            </a:r>
            <a:r>
              <a:rPr b="1" i="1" lang="en-US" sz="2800" spc="-1" strike="noStrike">
                <a:solidFill>
                  <a:srgbClr val="3333cc"/>
                </a:solidFill>
                <a:latin typeface="OptusTReg"/>
              </a:rPr>
              <a:t>geograph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comes from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ord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OptusTReg"/>
              </a:rPr>
              <a:t>geographia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hich means                                 “writing about the Earth.”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o describe where places were,                             they developed a system of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OptusTReg"/>
              </a:rPr>
              <a:t>longitude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OptusTReg"/>
              </a:rPr>
              <a:t>latitude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55" name="Picture 16" descr="Latitude and longitude"/>
          <p:cNvPicPr/>
          <p:nvPr/>
        </p:nvPicPr>
        <p:blipFill>
          <a:blip r:embed="rId2"/>
          <a:stretch/>
        </p:blipFill>
        <p:spPr>
          <a:xfrm>
            <a:off x="5334120" y="2486160"/>
            <a:ext cx="3657600" cy="3990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962800" y="933480"/>
            <a:ext cx="32500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Mathematic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The Greeks loved reasoning and looked for answers to nature’s mysteries in mathematics.  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One such scientist,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Pythagoras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, believed that numbers were the key to understanding nature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He started a school where students developed                  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mathematical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theorie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–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Like many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Pythagora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as especially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fascinated by </a:t>
            </a:r>
            <a:r>
              <a:rPr b="0" lang="en-US" sz="2800" spc="-1" strike="noStrike">
                <a:solidFill>
                  <a:srgbClr val="ff0000"/>
                </a:solidFill>
                <a:latin typeface="OptusTReg"/>
              </a:rPr>
              <a:t>geometr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2" marL="94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• </a:t>
            </a:r>
            <a:r>
              <a:rPr b="1" lang="en-US" sz="2400" spc="-1" strike="noStrike">
                <a:solidFill>
                  <a:srgbClr val="ff0000"/>
                </a:solidFill>
                <a:latin typeface="OptusTReg"/>
              </a:rPr>
              <a:t>geometry: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the branch of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mathematic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involving points,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lines, planes, and figure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59" name="Picture 8" descr="pythag1"/>
          <p:cNvPicPr/>
          <p:nvPr/>
        </p:nvPicPr>
        <p:blipFill>
          <a:blip r:embed="rId2"/>
          <a:stretch/>
        </p:blipFill>
        <p:spPr>
          <a:xfrm>
            <a:off x="228600" y="3886200"/>
            <a:ext cx="3809880" cy="2819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87360" y="933480"/>
            <a:ext cx="29710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stronom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How far away are the sun and moon?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How do planets move in space?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These are the kinds of questions asked by </a:t>
            </a:r>
            <a:r>
              <a:rPr b="0" lang="en-US" sz="2200" spc="-1" strike="noStrike">
                <a:solidFill>
                  <a:srgbClr val="3333cc"/>
                </a:solidFill>
                <a:latin typeface="OptusTReg"/>
              </a:rPr>
              <a:t>astronomers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OptusTReg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The word,</a:t>
            </a:r>
            <a:r>
              <a:rPr b="0" i="1" lang="en-US" sz="2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OptusTReg"/>
              </a:rPr>
              <a:t>Astronomy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comes from the </a:t>
            </a:r>
            <a:r>
              <a:rPr b="0" lang="en-US" sz="22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word </a:t>
            </a:r>
            <a:r>
              <a:rPr b="1" i="1" lang="en-US" sz="2200" spc="-1" strike="noStrike">
                <a:solidFill>
                  <a:srgbClr val="800000"/>
                </a:solidFill>
                <a:latin typeface="OptusTReg"/>
              </a:rPr>
              <a:t>astronomia 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meaning “star.” </a:t>
            </a:r>
            <a:endParaRPr b="0" lang="en-US" sz="2200" spc="-1" strike="noStrike">
              <a:solidFill>
                <a:srgbClr val="000000"/>
              </a:solidFill>
              <a:latin typeface="OptusTReg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OptusTReg"/>
              </a:rPr>
              <a:t>Astronomy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means the study of stars, planets, and other objects in space.</a:t>
            </a:r>
            <a:endParaRPr b="0" lang="en-US" sz="2200" spc="-1" strike="noStrike">
              <a:solidFill>
                <a:srgbClr val="000000"/>
              </a:solidFill>
              <a:latin typeface="OptusTReg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Once again, the </a:t>
            </a:r>
            <a:r>
              <a:rPr b="0" lang="en-US" sz="26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were pioneers in this field.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63" name="Picture 13" descr="astronomeroldnice"/>
          <p:cNvPicPr/>
          <p:nvPr/>
        </p:nvPicPr>
        <p:blipFill>
          <a:blip r:embed="rId2"/>
          <a:stretch/>
        </p:blipFill>
        <p:spPr>
          <a:xfrm>
            <a:off x="4530600" y="1600200"/>
            <a:ext cx="4416480" cy="5029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087360" y="933480"/>
            <a:ext cx="29710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stronom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•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People in all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   civilizations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observed the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sun, moon, and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stars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But a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scientist named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Aristarchu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as the first person to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 suggest that Earth moves around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       the sun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is idea upset many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ho believed that Earth was the center of the universe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67" name="Picture 9" descr="aristarchus"/>
          <p:cNvPicPr/>
          <p:nvPr/>
        </p:nvPicPr>
        <p:blipFill>
          <a:blip r:embed="rId2"/>
          <a:srcRect l="0" t="1831" r="18504" b="0"/>
          <a:stretch/>
        </p:blipFill>
        <p:spPr>
          <a:xfrm>
            <a:off x="6324480" y="1523880"/>
            <a:ext cx="2514600" cy="4038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8" name="Picture 12" descr="The heliocentric model of Aristarchus"/>
          <p:cNvPicPr/>
          <p:nvPr/>
        </p:nvPicPr>
        <p:blipFill>
          <a:blip r:embed="rId3"/>
          <a:stretch/>
        </p:blipFill>
        <p:spPr>
          <a:xfrm>
            <a:off x="228600" y="1143000"/>
            <a:ext cx="2689200" cy="2819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24520" y="933480"/>
            <a:ext cx="269676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Medicin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For centuries,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believed that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od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oddesse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ontrolled natural events, including health and sicknes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e earliest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thought that illness and accidents were punishments sent by 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od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y didn’t know about the natural causes of disease and healing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72" name="Picture 21" descr="Greek contributions  - Cartoon image for proofing use only, unauthorised reproduction prohibited."/>
          <p:cNvPicPr/>
          <p:nvPr/>
        </p:nvPicPr>
        <p:blipFill>
          <a:blip r:embed="rId2"/>
          <a:stretch/>
        </p:blipFill>
        <p:spPr>
          <a:xfrm>
            <a:off x="228600" y="1676520"/>
            <a:ext cx="4222800" cy="4952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224520" y="933480"/>
            <a:ext cx="269676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Medicin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man name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Hippocrate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hanged the way people thought about health an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medicine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Hippocrate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brought a </a:t>
            </a:r>
            <a:r>
              <a:rPr b="1" i="1" lang="en-US" sz="2400" spc="-1" strike="noStrike">
                <a:solidFill>
                  <a:srgbClr val="800000"/>
                </a:solidFill>
                <a:latin typeface="OptusTReg"/>
              </a:rPr>
              <a:t>scientific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ay of thinking to his work as a doctor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He believed that diseases had natural causes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He taught his students to carefully </a:t>
            </a:r>
            <a:r>
              <a:rPr b="1" i="1" lang="en-US" sz="2000" spc="-1" strike="noStrike">
                <a:solidFill>
                  <a:srgbClr val="800000"/>
                </a:solidFill>
                <a:latin typeface="OptusTReg"/>
              </a:rPr>
              <a:t>observe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their patients and write down what they saw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76" name="Picture 9" descr="hippocrates"/>
          <p:cNvPicPr/>
          <p:nvPr/>
        </p:nvPicPr>
        <p:blipFill>
          <a:blip r:embed="rId2"/>
          <a:stretch/>
        </p:blipFill>
        <p:spPr>
          <a:xfrm>
            <a:off x="4876920" y="1676520"/>
            <a:ext cx="3394080" cy="5029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OptusTReg"/>
              </a:rPr>
              <a:t>Our form of </a:t>
            </a:r>
            <a:r>
              <a:rPr b="0" lang="en-US" sz="3600" spc="-1" strike="noStrike">
                <a:solidFill>
                  <a:srgbClr val="3333cc"/>
                </a:solidFill>
                <a:latin typeface="OptusTReg"/>
              </a:rPr>
              <a:t>government</a:t>
            </a:r>
            <a:r>
              <a:rPr b="0" lang="en-US" sz="3600" spc="-1" strike="noStrike">
                <a:solidFill>
                  <a:srgbClr val="800000"/>
                </a:solidFill>
                <a:latin typeface="OptusTReg"/>
              </a:rPr>
              <a:t> was a </a:t>
            </a:r>
            <a:r>
              <a:rPr b="0" lang="en-US" sz="36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3600" spc="-1" strike="noStrike">
                <a:solidFill>
                  <a:srgbClr val="800000"/>
                </a:solidFill>
                <a:latin typeface="OptusTReg"/>
              </a:rPr>
              <a:t> idea.</a:t>
            </a:r>
            <a:endParaRPr b="0" lang="en-US" sz="3600" spc="-1" strike="noStrike">
              <a:solidFill>
                <a:srgbClr val="000000"/>
              </a:solidFill>
              <a:latin typeface="OptusTReg"/>
            </a:endParaRPr>
          </a:p>
          <a:p>
            <a:pPr lvl="1" marL="705600" indent="-271440">
              <a:spcBef>
                <a:spcPts val="7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Democracy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, or rule by the people, began in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Athens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705600" indent="-271440">
              <a:spcBef>
                <a:spcPts val="7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The practice of having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citizens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serve on juries also began in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Greece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993760" y="933480"/>
            <a:ext cx="32011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Gover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80" name="Picture 11" descr="the jury"/>
          <p:cNvPicPr/>
          <p:nvPr/>
        </p:nvPicPr>
        <p:blipFill>
          <a:blip r:embed="rId2"/>
          <a:stretch/>
        </p:blipFill>
        <p:spPr>
          <a:xfrm>
            <a:off x="304920" y="4114800"/>
            <a:ext cx="3809880" cy="2443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81" name="Picture 16" descr="vote"/>
          <p:cNvPicPr/>
          <p:nvPr/>
        </p:nvPicPr>
        <p:blipFill>
          <a:blip r:embed="rId3"/>
          <a:stretch/>
        </p:blipFill>
        <p:spPr>
          <a:xfrm>
            <a:off x="685800" y="1600200"/>
            <a:ext cx="2971800" cy="2298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0:07Z</dcterms:created>
  <dc:creator>K</dc:creator>
  <dc:description/>
  <dc:language>en-US</dc:language>
  <cp:lastModifiedBy>NYCDOE</cp:lastModifiedBy>
  <dcterms:modified xsi:type="dcterms:W3CDTF">2012-11-06T12:33:00Z</dcterms:modified>
  <cp:revision>147</cp:revision>
  <dc:subject/>
  <dc:title>The Legacy of Ancient Greece</dc:title>
</cp:coreProperties>
</file>